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712-BE95-4B1A-99D0-F997985B808E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39F-4B24-4E67-9EDC-7E35BF18CDDB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Date Placeholder 4"/>
          <p:cNvSpPr/>
          <p:nvPr/>
        </p:nvSpPr>
        <p:spPr>
          <a:xfrm>
            <a:off x="388476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A88-26EF-47D5-BEAA-835C2FEE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FB3-334F-4A93-859E-ED11E000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774-800A-4A4F-9FAC-3CC4380D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989-E338-4AD6-97B6-D098A93C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40A-45BF-4789-975C-B09A76D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5573-F97A-4CBC-8C20-B1ED647A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FCA-0943-4EC5-8A69-22420E3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8DB6-4DE1-4BF5-A8B4-DD75EE2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512-C308-466F-AFA0-C997A39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342-A34F-4D9D-8304-2E5519B4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CA8D-3CE7-444A-B001-C20F304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483-E029-4BD1-9ECB-F5A60BF0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E42-52BA-400A-A11B-0A19D23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674C-F735-4A0C-A283-438D93F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5268-B952-4323-9044-754EFA09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72B2-3FA6-4199-B6A6-8F6C5621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F87D-3BD2-4A2D-A52F-A8B3D754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E4C7F-DDDF-4DD5-A31C-456FC37E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89D1D-566E-407C-8BC3-ADD9C25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83670-87DE-43DC-8744-8001A49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DEA21-9E2E-433B-85CB-807499E2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5CA4D-BC91-4D8F-BDB7-43C3919B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9C1-CF2D-4337-8C6D-DB1FF14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F47F8-8927-499D-B5E3-9976F7F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4BF0E-0EC6-47DA-83A1-5B6D302E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42194-8817-4DA1-ABEF-A65A7EBE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2695B-9B06-4850-A680-EB313A2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1DE3A-3C47-4592-A52B-63A732FE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7412C-9406-4BEF-9274-723A746B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080A0-CE02-4507-B098-D40C0FCF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14025-0055-479B-9FB1-AB90A80E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B1E38-5B6B-4085-B5F3-6A409CFB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34503-E63C-4149-9966-5661EE7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FBE-F3FF-4EA0-8807-889653D5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5DDD8-C568-412B-83A3-57D9AEC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BFF2D-2492-4679-81D0-5BB446A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70FB6-2C56-4242-AACC-FB87768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2FA1B-234F-48A9-B283-930F93B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FE707-5B41-4A50-B832-557EB70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A101E-6F05-4437-B1CF-96348F5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88400-97FC-46B8-814E-3557549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030DC-A060-485F-9A28-750C0188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908B3-AF37-4AD8-A84B-703848DE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87A31-2002-4BAD-84D5-03EB63B4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F96-96CB-4439-B176-0ADD93D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FE944-D646-4545-BB0B-E7484568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F6E3F-38EF-43F4-806B-57A89518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B2F05-239B-4AB4-B7E4-37EABA0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F8325-7A5D-4224-84B6-BAECA9F6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6FD81-0038-422A-8627-4937227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FD142-734F-4D77-945F-56EDD4C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E8C9A-CC37-4A76-8BF6-39178DD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DE969-05B6-4584-A3E0-C002FCD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670B8-CD89-4225-A273-56E935B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26642-2C26-4643-A185-4AD6029B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1BB-A82A-45C0-9094-B1C9407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CF477-D0A0-423F-8632-D1A21CBF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F8BB-60DC-4989-866D-65BC630C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025E6-507D-4623-8561-1D15812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B2E9-2F92-45B5-8D0E-C5EAFB7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0004-92F4-4658-A82C-DEDDC46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5B60C-3331-49DE-8570-92276715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CF8A-1A1C-4822-B51C-4F114FB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BE397-0B1F-4AB3-B52D-DBB1A3E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157A-C523-4A7A-913A-2666C62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A44A-1E7E-4AA4-97A7-5A97376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423-118C-4FA2-A59C-FC755CF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EABF2-F367-463E-971E-AB26A73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54541-18A7-447E-8D13-9EFF320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2825-BF98-4959-AAE3-25C6FC9F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FD702-2EE5-4851-96C1-2FE867D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F42BB-0567-4047-8952-6CA9BA8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E81A6-89A9-4754-804E-2565DF4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632FE-8C08-4228-8654-2DBA90E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DCC1F-E732-47FD-ADDF-69B9C8C1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08467-4DA1-46FF-AAB4-F9D52BD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F6E37-2ADB-41A3-BD99-F5A9BCE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4FA-8018-48E5-85A9-E0350BF7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C58D2-281E-47BC-81FD-4641953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57E7F-75C6-4F73-93F1-486E966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BC9B5-018D-4E4C-9761-03EF046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EB812-133B-4AEB-8399-CBD3A8E3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3641A-301E-492A-A626-97069EEA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00453-4857-45A9-9E70-620B429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2F25A-6512-4890-8810-E3FF183A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9FA2-394C-44DF-9558-0EF1CF6B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6E33-9700-4CB2-8D98-95CFBF8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3E0A8-B03A-406D-AF07-7054BD0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CF6-400D-4119-BDE6-0B56005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54089-13EB-481A-80EC-C040E29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1F5C-0FD9-4965-B530-B5121C2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B56F4-87D3-42FC-8CC6-629A832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58565-90C4-47DD-9BE7-98E1C88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F881-8010-44AC-A6AD-CE86F77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CF48-D3D1-4138-8C75-DECF4F6F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EB586-5922-4AE6-B02E-F2908DBA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A37-ED3F-4C86-A254-E03E450DEB78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2E4-DFDF-4FC9-8869-BD6EBC7B896A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6B13-C4AF-48B7-8ED3-C6F6F01DC0A7}" type="datetime">
              <a:rPr b="0" lang="en-PH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29B-08D5-429A-AFC3-D1FDFF448697}" type="slidenum">
              <a:rPr b="1" lang="en-PH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D8DE-B1B8-4153-8B5A-530F883F3B5E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674-EBDF-4F1A-BC96-9465E749D4FE}" type="slidenum">
              <a:rPr b="1" lang="en-PH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6FD8-B82F-4A84-8272-69FD2C118F20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482-5401-4276-914C-1DEEF1926D11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9C7-725F-4FD6-B38F-9763B92035B6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4FB-8393-49AC-8696-B9F364BA842D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92A-726E-4EF0-B350-AC36D64BBC43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847F-78BA-4E9F-9EFD-E452E90C8B98}" type="slidenum">
              <a:rPr b="1" lang="en-PH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10DB-1958-4A8A-B6AC-78CAF364EBEC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28F0-08DF-45B8-B38B-298C519F9E37}" type="slidenum">
              <a:rPr b="1" lang="en-PH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FD3-067C-4D03-8B83-1D991375294D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C4B-B438-4652-8460-C373DF21B2FC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ebddc3"/>
                </a:solidFill>
                <a:latin typeface="Tw Cen MT"/>
              </a:rPr>
              <a:t>EFFICIENCY OF CONSUMPTION TAXES VS. INCOME TAX IN REDISTRIBUTING INCOME AND WEALTH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666880" y="606600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ffffff"/>
                </a:solidFill>
                <a:latin typeface="Tw Cen MT"/>
              </a:rPr>
              <a:t>Milwida M. Guevar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775f55"/>
                </a:solidFill>
                <a:latin typeface="Tw Cen MT"/>
              </a:rPr>
              <a:t>Are equals treated equall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The peronal income tax is horizontally inequitab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5" name="Object 3"/>
          <p:cNvGraphicFramePr/>
          <p:nvPr/>
        </p:nvGraphicFramePr>
        <p:xfrm>
          <a:off x="2401920" y="1828800"/>
          <a:ext cx="6742080" cy="37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828800"/>
                    <a:ext cx="674208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Box 4"/>
          <p:cNvSpPr/>
          <p:nvPr/>
        </p:nvSpPr>
        <p:spPr>
          <a:xfrm>
            <a:off x="4635000" y="624852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177-1824-4476-8735-19B57DBA2779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775f55"/>
                </a:solidFill>
                <a:latin typeface="Tw Cen MT"/>
              </a:rPr>
              <a:t>Is the corporate tax a fair tax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2666880" y="1905120"/>
          <a:ext cx="60454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6045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4"/>
          <p:cNvSpPr/>
          <p:nvPr/>
        </p:nvSpPr>
        <p:spPr>
          <a:xfrm>
            <a:off x="5087520" y="60199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,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B7A-1F3C-43C6-B268-C92377BC20D9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distributive effects must be viewed not only from the tax side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Even poor countries can deliver expenditure goods more effectively than poorly targeted exemption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The budget is a more efficient tool for redistribution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The main goal of taxation is to raise revenues in the most efficient and equitable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What matters is the overall impact of the budgetary system on the distribution of wealth and inco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1BB9-4733-47BA-8700-42860DEA6AEC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otal Effects of the Philippine Fiscal 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Sys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1" name="Content Placeholder 3" descr=""/>
          <p:cNvPicPr/>
          <p:nvPr/>
        </p:nvPicPr>
        <p:blipFill>
          <a:blip r:embed="rId1"/>
          <a:stretch/>
        </p:blipFill>
        <p:spPr>
          <a:xfrm>
            <a:off x="2335320" y="1657440"/>
            <a:ext cx="6534000" cy="452412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85D-D6E0-41C8-8122-4451ECADDAE8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Philippine VAT was regressive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9E3-BAA0-4727-9555-E38E73944FD0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makes for a regressive VA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e proportion of income that is spent on food decreases as income increase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narrow tax base—the VAT in 1988 covered goods and excluded services.  The exemption of services guaranteed a VAT that was not buoyant and regress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 people spend a greater percentage of their annual income on consumption of goods and would pay a greater percentage of their income on V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2740-01D0-4A42-B87A-5CFA3432A83B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VAT expansion in 1997 was a revenue, equity, and efficiency measure.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With the inclusion of services into the VAT base , the  VAT became  progressive  up to the 7</a:t>
            </a:r>
            <a:r>
              <a:rPr b="0" lang="en-PH" sz="1800" spc="-1" strike="noStrike" baseline="30000">
                <a:solidFill>
                  <a:srgbClr val="ffffff"/>
                </a:solidFill>
                <a:latin typeface="Tw Cen MT"/>
              </a:rPr>
              <a:t>th</a:t>
            </a: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 income lev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8" name="Object 2"/>
          <p:cNvGraphicFramePr/>
          <p:nvPr/>
        </p:nvGraphicFramePr>
        <p:xfrm>
          <a:off x="2540160" y="2286000"/>
          <a:ext cx="590868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2286000"/>
                    <a:ext cx="5908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999-A980-4D1F-8647-7D9A9022A13D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can enhance  the progressivity of the VA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 reduced rate or exemption of food can provide a larger absolute benefit to the rich and can turn into a subsidy for  the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emption of the consumption expenditures of the poor –unprocessed f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tiated rates—but they with significant administrative and efficiency co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emption of small traders—assuming they are owned by the poor but  their inputs are tax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A7F-CD2F-4DE4-BC60-F340C94D3A41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tudies on the Progressivity of VAT have varied resul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brill- Single VAT rate appears regressive when viewed against current income; more progressive when burden is related over total spending; broadly proportional relative to consump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staldi, 2014-  Regressivity of the VAT in terms of disposable income is driven by the very bottom and top quintiles---thus it is important that reduced rates are correctly target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952-F6CB-43D8-A1B3-644746EC176C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Caspersen and Metcalf--The VAT is less regressive when viewed against lifetime incom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J. Acosta Margain- The 2% VAT seems to be progressive depending on the compensatory mechanisms for the bottom group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Faridy 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Faridy and  Sarker-Bangladesh,  2011- The VAT is more regressive without exemptions than with exemptions.  The VAT at the rural level is less regressive than at the urban level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8C0B-B1C7-4C3C-A791-F4C9875D99E1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wisdom of Prof. Richard on the Progressivity of V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The economic costs of taxation can be reduced by a more efficient use of the VA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Bird-  Is VAT regressive?---not always or necessaril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There may be circumstances in which a good VAT may be better in distributive terms than a bad income tax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If combined with increased excises, indirect taxes may be more progressive than an income tax that is badly administer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9F0-E497-4C85-91CC-6C73282718F7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Is the Philippine Income Tax a fair tax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389" name="Object 3"/>
          <p:cNvGraphicFramePr/>
          <p:nvPr/>
        </p:nvGraphicFramePr>
        <p:xfrm>
          <a:off x="2666880" y="2209680"/>
          <a:ext cx="6123240" cy="33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612324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4"/>
          <p:cNvSpPr/>
          <p:nvPr/>
        </p:nvSpPr>
        <p:spPr>
          <a:xfrm>
            <a:off x="4401720" y="61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,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6458-5D6C-4D31-8834-B1E0AB89E2A3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04:01:43Z</dcterms:created>
  <dc:creator>Nene</dc:creator>
  <dc:description/>
  <dc:language>en-US</dc:language>
  <cp:lastModifiedBy>HP ProBook 440</cp:lastModifiedBy>
  <dcterms:modified xsi:type="dcterms:W3CDTF">2016-10-26T12:00:05Z</dcterms:modified>
  <cp:revision>23</cp:revision>
  <dc:subject/>
  <dc:title>Slide 1</dc:title>
</cp:coreProperties>
</file>