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9FC1-13F1-491B-99A2-FC1681DAA9D3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07D-5023-42BB-98E3-7764DD9F6AFA}" type="slidenum">
              <a:rPr b="0" lang="en-P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Date Placeholder 4"/>
          <p:cNvSpPr/>
          <p:nvPr/>
        </p:nvSpPr>
        <p:spPr>
          <a:xfrm>
            <a:off x="388476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13A-9C29-4F29-8094-A3C23C2B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3DC-D4DA-46A0-8FCE-CA7E4487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710-86BD-4800-BF4A-82EAEC58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02D-414F-46B0-A758-95C38654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FC6-9CDF-457C-99CA-5130D6BD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EB20-E718-4042-A599-726C06E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E635-5152-44E8-80E8-37ACF6A6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4881-3304-4771-9E2F-E6FE087A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9B21-C2D3-4E49-BF12-F5464D7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DF84-A1C5-47E4-953C-E3C1FD5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61E-22BA-44A3-B708-BD35FA5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325-23DD-44A6-9462-32F8714E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01FF-9F14-4DE1-A0C3-DAEB0A0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4D20-E291-48E4-9CD3-91E01F1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AAF-7DE0-4A48-8558-FFF9445B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3B0-9B96-48BD-9220-76D28A4F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8F08-9283-40AF-8473-4132751D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12F23-EEE9-40FD-B5A7-6ABB36BA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06591-E81F-4364-A6D6-F00B03E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42C75-D1D4-4D26-8DFA-D6D04E6E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0CBCC-E421-46E4-9A44-3B3B0C35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0F6E8-5D9E-46EA-81BE-398AE7E1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B7F-44FB-4A52-8178-0028739F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9780A-7921-40DD-BA28-6E947D0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2A7FB-03A1-4FFE-AC1D-78997F6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0FA05-C1CC-41B8-A5ED-5E7D653C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AEFCE-8BDC-4898-993E-A6A15F1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821F2-45E4-4776-BEA2-3C777BE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393D6-442A-4703-8465-094A058F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DC38D-5AB5-4D68-BC41-92C3F164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F3A6A-07C7-40F3-BBD1-20D84580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44D08-3FC4-45DC-8607-BFC8D2A6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0D308-9795-45A0-9A76-B4AD1FE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46F-2A88-4113-88A0-EB8B2DD3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A8460-D7FE-4499-9422-849EAAC7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4024E-9729-4292-BA66-6BAED4B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D44E8-2B59-4E90-A636-7B130575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D78AD-5D2B-4FA2-9530-362D00D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664D3-0DC0-489D-BC0E-6A26017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4322C-F35B-44AC-9B97-1AC095D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F4433-E4F7-4ABA-9C12-B3FEC832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C247A-A082-414E-9677-B803F42B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5482C-02F3-4DFB-B648-1E2D2A20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F761D-2704-46C7-87C2-8B44BB05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209-5790-49B5-9958-3707E5A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4D0C5-10E8-4CA2-B6E5-9D638A5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C9FD7-958E-42F4-B419-FD73D74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82C9F-BA49-4F64-A456-2A5F7A2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8AAC8-C322-4143-BA20-C155A13A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D443F-21EF-4D0E-BA44-24A3008D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5C5CA-BA4D-4149-A427-69C3E02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9A36E-8602-483D-A2C3-02F115C6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FEE8A-D2FF-4280-B8C2-368F7BD6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2569F-8734-47E6-9967-D312769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9EB88-B634-4C13-AEFE-6280D828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12D-5DFD-49F7-8089-033B65D5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D4F24-B26F-47A5-80A7-F1EB0212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7A7B-9461-4E50-A46D-39D9039F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7411-E39D-4431-A98D-213ABF55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1739-DAD9-4FF6-8C66-C6311C1B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70F6-DEE0-404B-9B9A-31CFDB28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A70F-15AB-466A-A8A7-EF7C044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075F-4BAA-4585-8AE2-11F67808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A4DF8-62C1-4717-B1E2-6831E48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6EB18-CA88-4A99-BC05-C6F3765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C47E-429B-4547-B68E-8B0497A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AB0-6EDE-4A12-BED3-B007F3D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15F9-32A2-4C38-B3BB-1CE5D1C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2C25-1F10-4CF4-9070-072C4F29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1C9A-C28F-4371-A1CD-D8B336E9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EF538-CA1A-4F3C-9548-F1DE7F45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58602-F05E-4B7D-A1C5-1FCBFE4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25087-B702-478B-891D-DE4664D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0AD28-B857-4A50-8ECD-467246D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EA8D3-181F-4207-AE6C-8CB8A667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C2708-A727-47B1-B8A7-280E06C4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D4ACC-2B57-4613-A4C6-19DCB81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1ED-AC60-401C-B89B-0E9CF883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B7C28-7D73-4804-9C66-D457566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ED8E1-101B-43A2-9EA7-1FC2A66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38EB9-BB8D-444C-8328-40DC14DA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B4146-23B4-482F-962D-BE2CEE2F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2042B-7508-4DAB-90CD-131B809C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ACC9-B420-437F-827D-51218C05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2404-1C8E-4256-AB11-24A99182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2C9F1-80BB-44D6-8110-FA30A3B3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00FDF-534A-446F-83DE-B982867A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2D017-A343-4AC3-B54F-DFE2A76F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47C-CFCA-4462-A12B-FD9BF1F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9E0A-9B2D-4C17-AA24-382CD4A6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D470E-A7CF-4370-8F0E-CE3FC29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379E-FB09-401B-BD03-5C0234A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5522C-3A19-4C93-87CF-CE1949A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5DF3B-E718-4156-9E8E-781B4A0F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57CE-2F6D-4AAF-83E9-5A61BED8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731F7-75CA-4A96-A9E3-1CC8B3E3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5A07-F48B-43BD-B8F0-104E026BFA5A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C3A-ADEF-4AA5-8844-F27C4340E6D1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B101-264F-4EE3-98D4-2F8F1C52DE50}" type="datetime">
              <a:rPr b="0" lang="en-PH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4D40-5E07-49FD-9497-C66650EEEFDA}" type="slidenum">
              <a:rPr b="1" lang="en-PH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2B48-4D91-4515-B1D3-CFC9C8514527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FCB-F68B-415E-8D67-710830295B6A}" type="slidenum">
              <a:rPr b="1" lang="en-PH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1CC1-E015-465B-A55D-A48A323A1080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D490-FE66-47AA-BAA8-B85CE000A8EC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7D6-795F-4D07-A252-3415997251C1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2EE6-9C5E-4785-8469-F70FD2BF194F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A96F-E529-43B2-AC2A-5E10E74262D2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7DA-9AC9-49D3-A96C-AD0BF3AC97FF}" type="slidenum">
              <a:rPr b="1" lang="en-PH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A84A-87A4-41E8-B85C-4E4ADDC7A4FD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4CB-05B6-4532-8CBF-299D9B259AF9}" type="slidenum">
              <a:rPr b="1" lang="en-PH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10A-AE31-4CEA-B794-51EF11F28354}" type="datetime">
              <a:rPr b="0" lang="en-PH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P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C81-C431-4C7B-99A1-14E760F8E62E}" type="slidenum">
              <a:rPr b="1" lang="en-P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ebddc3"/>
                </a:solidFill>
                <a:latin typeface="Tw Cen MT"/>
              </a:rPr>
              <a:t>EFFICIENCY OF CONSUMPTION TAXES VS. INCOME TAX IN REDISTRIBUTING INCOME AND WEALTH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666880" y="606600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ffffff"/>
                </a:solidFill>
                <a:latin typeface="Tw Cen MT"/>
              </a:rPr>
              <a:t>Milwida M. Guevar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775f55"/>
                </a:solidFill>
                <a:latin typeface="Tw Cen MT"/>
              </a:rPr>
              <a:t>Are equals treated equall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The peronal income tax is horizontally inequitabl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95" name="Object 3"/>
          <p:cNvGraphicFramePr/>
          <p:nvPr/>
        </p:nvGraphicFramePr>
        <p:xfrm>
          <a:off x="2401920" y="1828800"/>
          <a:ext cx="6742080" cy="37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828800"/>
                    <a:ext cx="674208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Box 4"/>
          <p:cNvSpPr/>
          <p:nvPr/>
        </p:nvSpPr>
        <p:spPr>
          <a:xfrm>
            <a:off x="4635000" y="624852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Tw Cen MT"/>
              </a:rPr>
              <a:t>Yoingco, Guevara and Gra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4BC-C878-4830-90C5-ED0954ED3CAC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775f55"/>
                </a:solidFill>
                <a:latin typeface="Tw Cen MT"/>
              </a:rPr>
              <a:t>Is the corporate tax a fair tax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2666880" y="1905120"/>
          <a:ext cx="604548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6045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4"/>
          <p:cNvSpPr/>
          <p:nvPr/>
        </p:nvSpPr>
        <p:spPr>
          <a:xfrm>
            <a:off x="5087520" y="60199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Tw Cen MT"/>
              </a:rPr>
              <a:t>Yoingco, Guevara, and Gra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23B0-8041-492F-8862-B56BFC3D6E4B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he distributive effects must be viewed not only from the tax side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Even poor countries can deliver expenditure goods more effectively than poorly targeted exemption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900" spc="-1" strike="noStrike">
                <a:solidFill>
                  <a:srgbClr val="000000"/>
                </a:solidFill>
                <a:latin typeface="Tw Cen MT"/>
              </a:rPr>
              <a:t>The budget is a more efficient tool for redistribution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900" spc="-1" strike="noStrike">
                <a:solidFill>
                  <a:srgbClr val="000000"/>
                </a:solidFill>
                <a:latin typeface="Tw Cen MT"/>
              </a:rPr>
              <a:t>The main goal of taxation is to raise revenues in the most efficient and equitable 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900" spc="-1" strike="noStrike">
                <a:solidFill>
                  <a:srgbClr val="000000"/>
                </a:solidFill>
                <a:latin typeface="Tw Cen MT"/>
              </a:rPr>
              <a:t>What matters is the overall impact of the budgetary system on the distribution of wealth and inco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0FC6-22DC-4C19-B99D-C8D39443AC67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otal Effects of the Philippine Fiscal 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Sys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1" name="Content Placeholder 3" descr=""/>
          <p:cNvPicPr/>
          <p:nvPr/>
        </p:nvPicPr>
        <p:blipFill>
          <a:blip r:embed="rId1"/>
          <a:stretch/>
        </p:blipFill>
        <p:spPr>
          <a:xfrm>
            <a:off x="2335320" y="1657440"/>
            <a:ext cx="6534000" cy="452412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5286-F758-40FC-BC65-8D3A2392701E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Philippine VAT was regressive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BBD-8473-4585-B529-9FA2D144B7CF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at makes for a regressive VAT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he proportion of income that is spent on food decreases as income increases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narrow tax base—the VAT in 1988 covered goods and excluded services.  The exemption of services guaranteed a VAT that was not buoyant and regress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 people spend a greater percentage of their annual income on consumption of goods and would pay a greater percentage of their income on VA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E7F0-0F62-413D-B933-B9A5D8033F9A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he VAT expansion in 1997 was a revenue, equity, and efficiency measure.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With the inclusion of services into the VAT base , the  VAT became  progressive  up to the 7</a:t>
            </a:r>
            <a:r>
              <a:rPr b="0" lang="en-PH" sz="1800" spc="-1" strike="noStrike" baseline="30000">
                <a:solidFill>
                  <a:srgbClr val="ffffff"/>
                </a:solidFill>
                <a:latin typeface="Tw Cen MT"/>
              </a:rPr>
              <a:t>th</a:t>
            </a: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 income leve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8" name="Object 2"/>
          <p:cNvGraphicFramePr/>
          <p:nvPr/>
        </p:nvGraphicFramePr>
        <p:xfrm>
          <a:off x="2540160" y="2286000"/>
          <a:ext cx="590868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2286000"/>
                    <a:ext cx="5908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B69-37F7-468A-AA0C-DBC03E933CAA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at can enhance  the progressivity of the VAT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 reduced rate or exemption of food can provide a larger absolute benefit to the rich and can turn into a subsidy for  the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emption of the consumption expenditures of the poor –unprocessed f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erentiated rates—but they with significant administrative and efficiency co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emption of small traders—assuming they are owned by the poor but  their inputs are tax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01A0-C95D-477B-914C-2ACE638955CE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tudies on the Progressivity of VAT have varied results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brill- Single VAT rate appears regressive when viewed against current income; more progressive when burden is related over total spending; broadly proportional relative to consump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staldi, 2014-  Regressivity of the VAT in terms of disposable income is driven by the very bottom and top quintiles---thus it is important that reduced rates are correctly targete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2709-9A22-4C6D-9885-B25C699C007E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Caspersen and Metcalf--The VAT is less regressive when viewed against lifetime incom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J. Acosta Margain- The 2% VAT seems to be progressive depending on the compensatory mechanisms for the bottom group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Faridy 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Tw Cen MT"/>
              </a:rPr>
              <a:t>Faridy and  Sarker-Bangladesh,  2011- The VAT is more regressive without exemptions than with exemptions.  The VAT at the rural level is less regressive than at the urban level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F5D-8159-407F-8843-2AF0896DAAE7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The wisdom of Prof. Richard on the Progressivity of V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fffff"/>
                </a:solidFill>
                <a:latin typeface="Tw Cen MT"/>
              </a:rPr>
              <a:t>The economic costs of taxation can be reduced by a more efficient use of the VA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Tw Cen MT"/>
              </a:rPr>
              <a:t>Bird-  Is VAT regressive?---not always or necessaril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Tw Cen MT"/>
              </a:rPr>
              <a:t>There may be circumstances in which a good VAT may be better in distributive terms than a bad income tax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700" spc="-1" strike="noStrike">
                <a:solidFill>
                  <a:srgbClr val="000000"/>
                </a:solidFill>
                <a:latin typeface="Tw Cen MT"/>
              </a:rPr>
              <a:t>If combined with increased excises, indirect taxes may be more progressive than an income tax that is badly administere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740B-91C1-4882-99B9-72E89F48C475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775f55"/>
                </a:solidFill>
                <a:latin typeface="Tw Cen MT"/>
              </a:rPr>
              <a:t>Is the Philippine Income Tax a fair tax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389" name="Object 3"/>
          <p:cNvGraphicFramePr/>
          <p:nvPr/>
        </p:nvGraphicFramePr>
        <p:xfrm>
          <a:off x="2666880" y="2209680"/>
          <a:ext cx="6123240" cy="33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612324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4"/>
          <p:cNvSpPr/>
          <p:nvPr/>
        </p:nvSpPr>
        <p:spPr>
          <a:xfrm>
            <a:off x="4401720" y="61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Tw Cen MT"/>
              </a:rPr>
              <a:t>Yoingco, Guevara, and Gra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D60-4342-4559-B93D-B469E831D9F0}" type="slidenum">
              <a:rPr b="1" lang="en-PH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04:01:43Z</dcterms:created>
  <dc:creator>Nene</dc:creator>
  <dc:description/>
  <dc:language>en-US</dc:language>
  <cp:lastModifiedBy>HP ProBook 440</cp:lastModifiedBy>
  <dcterms:modified xsi:type="dcterms:W3CDTF">2016-10-26T12:00:05Z</dcterms:modified>
  <cp:revision>23</cp:revision>
  <dc:subject/>
  <dc:title>Slide 1</dc:title>
</cp:coreProperties>
</file>