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2B154-1A00-45D2-8816-BBC6673D79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289AC-70EC-4193-AB47-384765D5A8AB}" type="slidenum">
              <a:rPr b="0" lang="en-GB" sz="1200" spc="-1" strike="noStrike">
                <a:solidFill>
                  <a:srgbClr val="252d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8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is graph draws on PEFA (Public Expenditure Financial Accountability) scores PI-14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3B64C-3C30-47B1-9F37-1F38BD5F909C}" type="slidenum">
              <a:rPr b="0" lang="en-GB" sz="1200" spc="-1" strike="noStrike">
                <a:solidFill>
                  <a:srgbClr val="252d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42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BE1-818E-40F9-89E6-7817597A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CCB-F3ED-459E-8877-FF476024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8C1-3717-4B40-B811-40DC72A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075-135F-4094-B510-B1B69A8A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BE0-CBE3-4BED-A1E5-158F364F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D57-692E-4E37-8B45-23F0B54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7BF-5723-4ADC-BAC5-72BDE051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C69-2B13-43D2-A756-588B6FF9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F0B-1E11-4E36-8B16-C37E6B8B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418-BC0A-4FCA-B211-29B136E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00000" y="873000"/>
            <a:ext cx="730728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327-1A61-48FA-B8C9-791BFA05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44360" y="378756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7068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41360" y="159192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0000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7068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41360" y="3787560"/>
            <a:ext cx="23526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360" y="1591920"/>
            <a:ext cx="3565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787560"/>
            <a:ext cx="73072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CA0-8357-4147-A211-07FC742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49520" y="6011640"/>
            <a:ext cx="20574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2DDBA-B14B-4CA5-BA15-6AA6EF8073C7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6560" y="6011640"/>
            <a:ext cx="450072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66560" y="6227280"/>
            <a:ext cx="450072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53959-4CB3-4293-9D78-85F0289E1CF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Department of Foreign Affairs and Trade"/>
          <p:cNvPicPr/>
          <p:nvPr/>
        </p:nvPicPr>
        <p:blipFill>
          <a:blip r:embed="rId4"/>
          <a:stretch/>
        </p:blipFill>
        <p:spPr>
          <a:xfrm>
            <a:off x="3654360" y="2709720"/>
            <a:ext cx="1825560" cy="1433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Department of Foreign Affairs and Trade"/>
          <p:cNvPicPr/>
          <p:nvPr/>
        </p:nvPicPr>
        <p:blipFill>
          <a:blip r:embed="rId4"/>
          <a:stretch/>
        </p:blipFill>
        <p:spPr>
          <a:xfrm>
            <a:off x="3654360" y="2709720"/>
            <a:ext cx="1825560" cy="1433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ackgroun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Department of Foreign Affairs and Trade"/>
          <p:cNvPicPr/>
          <p:nvPr/>
        </p:nvPicPr>
        <p:blipFill>
          <a:blip r:embed="rId4"/>
          <a:stretch/>
        </p:blipFill>
        <p:spPr>
          <a:xfrm>
            <a:off x="3681360" y="2733840"/>
            <a:ext cx="1781280" cy="13903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17928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358920" indent="-179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Calibri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 3" charset="2"/>
              <a:buChar char="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5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6" marL="538200" indent="-1792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 Narrow"/>
              <a:buChar char="◦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epartment of Foreign Affairs and Trade"/>
          <p:cNvPicPr/>
          <p:nvPr/>
        </p:nvPicPr>
        <p:blipFill>
          <a:blip r:embed="rId1"/>
          <a:stretch/>
        </p:blipFill>
        <p:spPr>
          <a:xfrm>
            <a:off x="884160" y="1171440"/>
            <a:ext cx="3211560" cy="5875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0000" y="3492000"/>
            <a:ext cx="392904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252d33"/>
                </a:solidFill>
                <a:latin typeface="Calibri"/>
              </a:rPr>
              <a:t>TAX ADMINISTRATION IN DEVELOPING COUNTRIES AND THEIR RESPONSE TO BEPS</a:t>
            </a:r>
            <a:endParaRPr b="1" lang="en-US" sz="30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99640" y="5962680"/>
            <a:ext cx="31957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52d33"/>
                </a:solidFill>
                <a:latin typeface="Calibri Light"/>
              </a:rPr>
              <a:t>Prepared by Cate Rogers, A/g Chief Economist (Development)</a:t>
            </a:r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52d33"/>
                </a:solidFill>
                <a:latin typeface="Calibri Light"/>
              </a:rPr>
              <a:t>Presented Friday 28 October, 2016</a:t>
            </a:r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WHAT NEXT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84280" y="1406520"/>
            <a:ext cx="75168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Inclusive framework, currently comprised of 86 members and associate jurisdictions, requires members to: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112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ommit to implement the BEPS minimum standard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112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Pay annual BEPS associate fee (may be reduced for developing countries with resource constraints)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112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Participate in policy development and decision making on equal footing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1120" indent="-3290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ountries work jointly for the implementation of BEPS measures, through development of new standards and review and monitoring of the BEPS project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1707F-3B99-47B8-8AE0-65A985FD5493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d33"/>
                </a:solidFill>
                <a:latin typeface="Calibri"/>
              </a:rPr>
              <a:t>WHAT NEXT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3320" y="1592280"/>
            <a:ext cx="81356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Platform for collaboration on tax is developing toolkits to assist developing countries (IMF, OECD, UN and WBG)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3264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Addis Tax Initiative, requires participating partner countries to commit to raise their domestic resource mobilisation, and improve the fairness, transparency, efficiency and effectiveness of their tax system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0652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onors in turn, must double their tax related assistance by 2020, among other things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3264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OECD Forum of Tax Administration (FTA) has a number of collaboration projects on BEPS implementation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32640" indent="-33264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2393C-43F2-47AA-936E-0B52061037A8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495965"/>
                </a:solidFill>
                <a:latin typeface="Calibri"/>
              </a:rPr>
              <a:t>OUTLINE OF PRESENTATION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How big is the problem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How should it be prioritised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If it is a priority then which action items are most relevant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What next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9C16E-A9DE-43E0-ABA9-A4A1BB1FE40C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495965"/>
                </a:solidFill>
                <a:latin typeface="Calibri"/>
              </a:rPr>
              <a:t>HOW BIG IS THE PROBLEM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4440" y="1591920"/>
            <a:ext cx="815184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OECD estimates that BEPS costs between USD100-240 billion per year in lost revenues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In 2014, the OECD examined the issue of BEPS and developing countries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701640" indent="-34272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Found that developing countries are highly reliant on corporate income tax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701640" indent="-34272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Average share of corporate income tax in total tax revenue for OECD members is 8.5 per cent, vs 16 per cent among Low Income countrie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d33"/>
                </a:solidFill>
                <a:latin typeface="Calibri Light"/>
              </a:rPr>
              <a:t>But need to look beyond the averages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C85AB-EBFF-4C19-9CDC-7D158B795D9A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52d33"/>
                </a:solidFill>
                <a:latin typeface="Calibri"/>
              </a:rPr>
              <a:t>THE TAX MIX IN DEVELOPING COUNTRIES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91178-E54A-4F2E-8448-7DCB38F8F2BA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pic>
        <p:nvPicPr>
          <p:cNvPr id="306" name="Content Placeholder 5" descr=""/>
          <p:cNvPicPr/>
          <p:nvPr/>
        </p:nvPicPr>
        <p:blipFill>
          <a:blip r:embed="rId1"/>
          <a:stretch/>
        </p:blipFill>
        <p:spPr>
          <a:xfrm>
            <a:off x="900000" y="1592280"/>
            <a:ext cx="7307280" cy="43894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2"/>
          <p:cNvSpPr/>
          <p:nvPr/>
        </p:nvSpPr>
        <p:spPr>
          <a:xfrm>
            <a:off x="4748040" y="6178680"/>
            <a:ext cx="384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252d33"/>
                </a:solidFill>
                <a:latin typeface="Calibri Light"/>
              </a:rPr>
              <a:t>Source: IMF GFS database</a:t>
            </a:r>
            <a:endParaRPr b="0" lang="en-US" sz="1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52d33"/>
                </a:solidFill>
                <a:latin typeface="Calibri"/>
              </a:rPr>
              <a:t>HOW SHOULD IT BE PRIORITISED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8600" y="1609200"/>
            <a:ext cx="81691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Consider how reliant the economy is on corporate income tax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2236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Within this, how much comes from MNEs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Resource dependent developing countries need to be particularly aware given the dominant role of MNEs in mining and petroleum, and in our own region - fisheries and logging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Consider institutional capabilities of the tax administration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2236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52d33"/>
                </a:solidFill>
                <a:latin typeface="Calibri Light"/>
              </a:rPr>
              <a:t>Are the basics of tax administration capability there?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5C77B-7181-4B24-B648-836D9FA925E5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584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52d33"/>
                </a:solidFill>
                <a:latin typeface="Calibri"/>
              </a:rPr>
              <a:t>PEFA SCORES ON MEASURES FOR TAXPAYER REGISTRATION AND ASSESSMENT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81A05-1BC7-4BFD-A00C-C5DFA624138A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pic>
        <p:nvPicPr>
          <p:cNvPr id="315" name="Content Placeholder 5" descr=""/>
          <p:cNvPicPr/>
          <p:nvPr/>
        </p:nvPicPr>
        <p:blipFill>
          <a:blip r:embed="rId1"/>
          <a:stretch/>
        </p:blipFill>
        <p:spPr>
          <a:xfrm>
            <a:off x="923760" y="1544760"/>
            <a:ext cx="7307280" cy="42037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588960" y="5751360"/>
            <a:ext cx="233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252d33"/>
                </a:solidFill>
                <a:latin typeface="Calibri Light"/>
              </a:rPr>
              <a:t>Source: Carnahan (2015)</a:t>
            </a:r>
            <a:endParaRPr b="0" lang="en-US" sz="14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00000" y="873000"/>
            <a:ext cx="7307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52d33"/>
                </a:solidFill>
                <a:latin typeface="Calibri"/>
              </a:rPr>
              <a:t>IF IT IS A PRIORITY WHICH ACTION ITEMS ARE MOST RELEVANT?</a:t>
            </a:r>
            <a:endParaRPr b="1" lang="en-US" sz="2800" spc="-1" strike="noStrike">
              <a:solidFill>
                <a:srgbClr val="252d33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00000" y="1591920"/>
            <a:ext cx="7307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Excessive or unwarranted payments to MNE affiliates, especially excessive interest payments and payments for service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22360" indent="-3430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eveloping countries report difficulties in whether real value was received 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4" marL="880920" indent="-342720">
              <a:lnSpc>
                <a:spcPts val="2798"/>
              </a:lnSpc>
              <a:spcBef>
                <a:spcPts val="601"/>
              </a:spcBef>
              <a:buClr>
                <a:srgbClr val="00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OECD Recommendations on </a:t>
            </a: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 4 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on interest payments and </a:t>
            </a: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s 8-10 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on transfer pricing especially the simplification measures on low value adding intra group services (LVAIGS) help to address this issue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3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3AFF7-7F06-4FA7-BEFB-0CA85C3EDBE9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00000" y="926640"/>
            <a:ext cx="79041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New models for doing business such as global value chain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49068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 </a:t>
            </a: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ifficulties in challenging supply chain restructuring where functions, assets (particularly intellectual property) and risk are centralised at a global or regional level often in a low tax jurisdiction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s  8-10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  clarify the Transfer Pricing rules and emphasise the economic substance of operations 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 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The new Transfer Pricing documentation (CbC reports) recommended under </a:t>
            </a: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 13 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will supply information required to apply transfer pricing rule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5d67"/>
                </a:solidFill>
                <a:uFillTx/>
                <a:latin typeface="Calibri"/>
                <a:ea typeface="Calibri"/>
              </a:rPr>
              <a:t>Action 7</a:t>
            </a:r>
            <a:r>
              <a:rPr b="0" lang="en-AU" sz="2400" spc="-1" strike="noStrike">
                <a:solidFill>
                  <a:srgbClr val="005d67"/>
                </a:solidFill>
                <a:latin typeface="Calibri"/>
                <a:ea typeface="Calibri"/>
              </a:rPr>
              <a:t> on permanent establishment (PE) will assist in ensuring that MNEs operating in source countries are taxed on their true economic activity in those countries  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6240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490680" indent="-32220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9F2E6-BDFC-4C11-B711-0C1859E3D791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23680" y="617040"/>
            <a:ext cx="738324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eveloping countries need information to assess and address BEPS issues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11560" indent="-3358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Country by country reporting will help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marL="335880" indent="-3358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Treaty abuse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1" marL="511560" indent="-335880">
              <a:lnSpc>
                <a:spcPts val="2798"/>
              </a:lnSpc>
              <a:spcBef>
                <a:spcPts val="601"/>
              </a:spcBef>
              <a:buClr>
                <a:srgbClr val="252d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d33"/>
                </a:solidFill>
                <a:latin typeface="Calibri Light"/>
              </a:rPr>
              <a:t>Developing countries rely on relatively high withholding taxes from interest and royalties. MNEs can use techniques to route payments through affiliates to avoid the payment of withholding tax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  <a:p>
            <a:pPr lvl="2" marL="687600" indent="-335520">
              <a:lnSpc>
                <a:spcPts val="2798"/>
              </a:lnSpc>
              <a:spcBef>
                <a:spcPts val="601"/>
              </a:spcBef>
              <a:buClr>
                <a:srgbClr val="00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67"/>
                </a:solidFill>
                <a:latin typeface="Calibri Light"/>
              </a:rPr>
              <a:t>Minimum standard recommendations for </a:t>
            </a:r>
            <a:r>
              <a:rPr b="1" lang="en-US" sz="2400" spc="-1" strike="noStrike" u="sng">
                <a:solidFill>
                  <a:srgbClr val="005d67"/>
                </a:solidFill>
                <a:uFillTx/>
                <a:latin typeface="Calibri Light"/>
              </a:rPr>
              <a:t>Action 6 </a:t>
            </a:r>
            <a:r>
              <a:rPr b="1" lang="en-US" sz="2400" spc="-1" strike="noStrike">
                <a:solidFill>
                  <a:srgbClr val="005d67"/>
                </a:solidFill>
                <a:latin typeface="Calibri Light"/>
              </a:rPr>
              <a:t>include limitation of benefits/principal purpose clauses that deny treaty benefits if there has been treaty shopping.</a:t>
            </a:r>
            <a:endParaRPr b="0" lang="en-US" sz="24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466560" y="6012000"/>
            <a:ext cx="45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000" spc="-1" strike="noStrike">
                <a:solidFill>
                  <a:srgbClr val="252d33"/>
                </a:solidFill>
                <a:latin typeface="Calibri Light"/>
              </a:rPr>
              <a:t>Tax administration in developing countries and their response to BEPS</a:t>
            </a:r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466560" y="6227640"/>
            <a:ext cx="45007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3DB7B-CC0C-4748-B2D6-27B23986D0E7}" type="slidenum">
              <a:rPr b="0" lang="en-GB" sz="1000" spc="-1" strike="noStrike">
                <a:solidFill>
                  <a:srgbClr val="252d33"/>
                </a:solidFill>
                <a:latin typeface="Calibri Light"/>
              </a:rPr>
              <a:t>&lt;number&gt;</a:t>
            </a:fld>
            <a:endParaRPr b="0" lang="en-US" sz="1000" spc="-1" strike="noStrike">
              <a:solidFill>
                <a:srgbClr val="252d33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7T00:02:50Z</dcterms:created>
  <dc:creator>Ben Fulford</dc:creator>
  <dc:description/>
  <dc:language>en-US</dc:language>
  <cp:lastModifiedBy>jabato</cp:lastModifiedBy>
  <dcterms:modified xsi:type="dcterms:W3CDTF">2016-10-25T08:10:31Z</dcterms:modified>
  <cp:revision>89</cp:revision>
  <dc:subject/>
  <dc:title>PowerPoint - stand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lpha">
    <vt:lpwstr>1. Examples of best practice</vt:lpwstr>
  </property>
  <property fmtid="{D5CDD505-2E9C-101B-9397-08002B2CF9AE}" pid="3" name="ContentTypeId">
    <vt:lpwstr>0x01010068D47A3238F547F295FC4399B890905A00EB5D4F438FF3914DA696AB2B9777A65B</vt:lpwstr>
  </property>
  <property fmtid="{D5CDD505-2E9C-101B-9397-08002B2CF9AE}" pid="4" name="DLM">
    <vt:lpwstr>No DLM</vt:lpwstr>
  </property>
  <property fmtid="{D5CDD505-2E9C-101B-9397-08002B2CF9AE}" pid="5" name="ExpiryDate">
    <vt:lpwstr/>
  </property>
  <property fmtid="{D5CDD505-2E9C-101B-9397-08002B2CF9AE}" pid="6" name="Format">
    <vt:lpwstr>6. PowerPoint</vt:lpwstr>
  </property>
  <property fmtid="{D5CDD505-2E9C-101B-9397-08002B2CF9AE}" pid="7" name="ItemActive">
    <vt:lpwstr>1</vt:lpwstr>
  </property>
  <property fmtid="{D5CDD505-2E9C-101B-9397-08002B2CF9AE}" pid="8" name="Order">
    <vt:r8>81800</vt:r8>
  </property>
  <property fmtid="{D5CDD505-2E9C-101B-9397-08002B2CF9AE}" pid="9" name="OrganisationalUnit">
    <vt:lpwstr/>
  </property>
  <property fmtid="{D5CDD505-2E9C-101B-9397-08002B2CF9AE}" pid="10" name="PageAuthor">
    <vt:lpwstr/>
  </property>
  <property fmtid="{D5CDD505-2E9C-101B-9397-08002B2CF9AE}" pid="11" name="PageDescription">
    <vt:lpwstr/>
  </property>
  <property fmtid="{D5CDD505-2E9C-101B-9397-08002B2CF9AE}" pid="12" name="PageKeywords">
    <vt:lpwstr/>
  </property>
  <property fmtid="{D5CDD505-2E9C-101B-9397-08002B2CF9AE}" pid="13" name="ReviewDate">
    <vt:lpwstr/>
  </property>
  <property fmtid="{D5CDD505-2E9C-101B-9397-08002B2CF9AE}" pid="14" name="SEC">
    <vt:lpwstr>UNCLASSIFIED</vt:lpwstr>
  </property>
  <property fmtid="{D5CDD505-2E9C-101B-9397-08002B2CF9AE}" pid="15" name="SecurityCategory">
    <vt:lpwstr/>
  </property>
  <property fmtid="{D5CDD505-2E9C-101B-9397-08002B2CF9AE}" pid="16" name="TRIMReferenceNumber">
    <vt:lpwstr/>
  </property>
  <property fmtid="{D5CDD505-2E9C-101B-9397-08002B2CF9AE}" pid="17" name="Template group">
    <vt:lpwstr>Publication Templates</vt:lpwstr>
  </property>
  <property fmtid="{D5CDD505-2E9C-101B-9397-08002B2CF9AE}" pid="18" name="TitusGUID">
    <vt:lpwstr>4eff7683-992b-4bda-a122-576332d128ee</vt:lpwstr>
  </property>
</Properties>
</file>