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d33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2CDF0-9580-41D8-A95C-661BFD0899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7EA6C-FA2F-4FC1-AF4F-A9D1E4C9CAEF}" type="slidenum">
              <a:rPr b="0" lang="en-GB" sz="1200" spc="-1" strike="noStrike">
                <a:solidFill>
                  <a:srgbClr val="252d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38" name="Date Placeholder 4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is graph draws on PEFA (Public Expenditure Financial Accountability) scores PI-14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B9229-AB54-4FF1-8863-B52B43A967A2}" type="slidenum">
              <a:rPr b="0" lang="en-GB" sz="1200" spc="-1" strike="noStrike">
                <a:solidFill>
                  <a:srgbClr val="252d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42" name="Date Placeholder 4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9D9-443A-46AE-8707-51CCDAB3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91A-B488-44B8-BAAD-01863C67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0540-399A-4ED2-8E0E-2C8ADF9E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068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136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0000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068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136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A79-CBEF-4FE4-A7BB-27E4CC1C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00000" y="873000"/>
            <a:ext cx="7307280" cy="27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44F-5A28-4332-828B-4ACB36F9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068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4136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0000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068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4136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B46-6683-4C30-92D5-620CAA6C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00000" y="873000"/>
            <a:ext cx="7307280" cy="27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7068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4136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0000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7068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84136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BD5-E3D3-4777-972C-50A344E7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900000" y="873000"/>
            <a:ext cx="7307280" cy="27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7068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84136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90000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7068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84136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D7A6-D73E-4CBE-8EF8-FDD6E49F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900000" y="873000"/>
            <a:ext cx="7307280" cy="27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00000" y="873000"/>
            <a:ext cx="7307280" cy="27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C900-A882-4538-920C-B00F21D2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7068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84136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90000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7068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84136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900000" y="873000"/>
            <a:ext cx="7307280" cy="27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D9E-D1D6-42DF-A9C1-0C7E9D23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7068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84136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90000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7068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84136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900000" y="873000"/>
            <a:ext cx="7307280" cy="27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6B0-F964-4372-8504-2248EB7E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7068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84136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90000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7068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84136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095C-E4CD-4184-944F-80FBDF75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d33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17928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358920" indent="-179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3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 3" charset="2"/>
              <a:buChar char="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4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5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6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49520" y="6011640"/>
            <a:ext cx="20574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E12FB-5D3E-4D49-AC31-39580BD95C33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6560" y="6011640"/>
            <a:ext cx="450072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Tax administration in developing countries and their response to B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66560" y="6227280"/>
            <a:ext cx="450072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0245D-3DB7-44F1-A04A-F2F67ADEF75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Backgroun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d33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17928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358920" indent="-179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3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 3" charset="2"/>
              <a:buChar char="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4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5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6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Backgroun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d33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17928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358920" indent="-179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3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 3" charset="2"/>
              <a:buChar char="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4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5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6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Backgroun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d33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17928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358920" indent="-179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3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 3" charset="2"/>
              <a:buChar char="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4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5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6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Backgroun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Department of Foreign Affairs and Trade"/>
          <p:cNvPicPr/>
          <p:nvPr/>
        </p:nvPicPr>
        <p:blipFill>
          <a:blip r:embed="rId4"/>
          <a:stretch/>
        </p:blipFill>
        <p:spPr>
          <a:xfrm>
            <a:off x="3654360" y="2709720"/>
            <a:ext cx="1825560" cy="14335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d33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17928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358920" indent="-179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3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 3" charset="2"/>
              <a:buChar char="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4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5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6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Backgroun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Department of Foreign Affairs and Trade"/>
          <p:cNvPicPr/>
          <p:nvPr/>
        </p:nvPicPr>
        <p:blipFill>
          <a:blip r:embed="rId4"/>
          <a:stretch/>
        </p:blipFill>
        <p:spPr>
          <a:xfrm>
            <a:off x="3654360" y="2709720"/>
            <a:ext cx="1825560" cy="14335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d33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17928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358920" indent="-179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3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 3" charset="2"/>
              <a:buChar char="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4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5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6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Backgroun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Department of Foreign Affairs and Trade"/>
          <p:cNvPicPr/>
          <p:nvPr/>
        </p:nvPicPr>
        <p:blipFill>
          <a:blip r:embed="rId4"/>
          <a:stretch/>
        </p:blipFill>
        <p:spPr>
          <a:xfrm>
            <a:off x="3681360" y="2733840"/>
            <a:ext cx="1781280" cy="13903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d33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17928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358920" indent="-179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3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 3" charset="2"/>
              <a:buChar char="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4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5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6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7" descr="Department of Foreign Affairs and Trade"/>
          <p:cNvPicPr/>
          <p:nvPr/>
        </p:nvPicPr>
        <p:blipFill>
          <a:blip r:embed="rId1"/>
          <a:stretch/>
        </p:blipFill>
        <p:spPr>
          <a:xfrm>
            <a:off x="884160" y="1171440"/>
            <a:ext cx="3211560" cy="5875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00000" y="3492000"/>
            <a:ext cx="3929040" cy="23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252d33"/>
                </a:solidFill>
                <a:latin typeface="Calibri"/>
              </a:rPr>
              <a:t>TAX ADMINISTRATION IN DEVELOPING COUNTRIES AND THEIR RESPONSE TO BEPS</a:t>
            </a:r>
            <a:endParaRPr b="1" lang="en-US" sz="30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899640" y="5962680"/>
            <a:ext cx="31957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52d33"/>
                </a:solidFill>
                <a:latin typeface="Calibri Light"/>
              </a:rPr>
              <a:t>Prepared by Cate Rogers, A/g Chief Economist (Development)</a:t>
            </a:r>
            <a:endParaRPr b="0" lang="en-US" sz="1200" spc="-1" strike="noStrike">
              <a:solidFill>
                <a:srgbClr val="252d33"/>
              </a:solidFill>
              <a:latin typeface="Calibri Light"/>
            </a:endParaRPr>
          </a:p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52d33"/>
                </a:solidFill>
                <a:latin typeface="Calibri Light"/>
              </a:rPr>
              <a:t>Presented Friday 28 October, 2016</a:t>
            </a:r>
            <a:endParaRPr b="0" lang="en-US" sz="1200" spc="-1" strike="noStrike">
              <a:solidFill>
                <a:srgbClr val="252d33"/>
              </a:solidFill>
              <a:latin typeface="Calibri Light"/>
            </a:endParaRPr>
          </a:p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d33"/>
                </a:solidFill>
                <a:latin typeface="Calibri"/>
              </a:rPr>
              <a:t>WHAT NEXT?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84280" y="1406520"/>
            <a:ext cx="75168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Inclusive framework, currently comprised of 86 members and associate jurisdictions, requires members to: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501120" indent="-3290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Commit to implement the BEPS minimum standards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501120" indent="-3290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Pay annual BEPS associate fee (may be reduced for developing countries with resource constraints)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501120" indent="-3290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Participate in policy development and decision making on equal footing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501120" indent="-3290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Countries work jointly for the implementation of BEPS measures, through development of new standards and review and monitoring of the BEPS project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29" name="Footer Placeholder 3"/>
          <p:cNvSpPr/>
          <p:nvPr/>
        </p:nvSpPr>
        <p:spPr>
          <a:xfrm>
            <a:off x="466560" y="6012000"/>
            <a:ext cx="45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252d33"/>
                </a:solidFill>
                <a:latin typeface="Calibri Light"/>
              </a:rPr>
              <a:t>Tax administration in developing countries and their response to BEPS</a:t>
            </a:r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466560" y="6227640"/>
            <a:ext cx="45007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25064-5407-4F1A-BFF8-DEC99B62CEAC}" type="slidenum">
              <a:rPr b="0" lang="en-GB" sz="1000" spc="-1" strike="noStrike">
                <a:solidFill>
                  <a:srgbClr val="252d33"/>
                </a:solidFill>
                <a:latin typeface="Calibri Light"/>
              </a:rPr>
              <a:t>&lt;number&gt;</a:t>
            </a:fld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d33"/>
                </a:solidFill>
                <a:latin typeface="Calibri"/>
              </a:rPr>
              <a:t>WHAT NEXT?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63320" y="1592280"/>
            <a:ext cx="81356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Platform for collaboration on tax is developing toolkits to assist developing countries (IMF, OECD, UN and WBG)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32640" indent="-332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Addis Tax Initiative, requires participating partner countries to commit to raise their domestic resource mobilisation, and improve the fairness, transparency, efficiency and effectiveness of their tax systems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506520" indent="-332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Donors in turn, must double their tax related assistance by 2020, among other things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32640" indent="-332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OECD Forum of Tax Administration (FTA) has a number of collaboration projects on BEPS implementation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32640" indent="-332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33" name="Footer Placeholder 3"/>
          <p:cNvSpPr/>
          <p:nvPr/>
        </p:nvSpPr>
        <p:spPr>
          <a:xfrm>
            <a:off x="466560" y="6012000"/>
            <a:ext cx="45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252d33"/>
                </a:solidFill>
                <a:latin typeface="Calibri Light"/>
              </a:rPr>
              <a:t>Tax administration in developing countries and their response to BEPS</a:t>
            </a:r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466560" y="6227640"/>
            <a:ext cx="45007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2F0BE-95F4-46E2-A9EC-1EB98C468DDF}" type="slidenum">
              <a:rPr b="0" lang="en-GB" sz="1000" spc="-1" strike="noStrike">
                <a:solidFill>
                  <a:srgbClr val="252d33"/>
                </a:solidFill>
                <a:latin typeface="Calibri Light"/>
              </a:rPr>
              <a:t>&lt;number&gt;</a:t>
            </a:fld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495965"/>
                </a:solidFill>
                <a:latin typeface="Calibri"/>
              </a:rPr>
              <a:t>OUTLINE OF PRESENTATION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52d33"/>
                </a:solidFill>
                <a:latin typeface="Calibri Light"/>
              </a:rPr>
              <a:t>How big is the problem?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52d33"/>
                </a:solidFill>
                <a:latin typeface="Calibri Light"/>
              </a:rPr>
              <a:t>How should it be prioritised?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52d33"/>
                </a:solidFill>
                <a:latin typeface="Calibri Light"/>
              </a:rPr>
              <a:t>If it is a priority then which action items are most relevant?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52d33"/>
                </a:solidFill>
                <a:latin typeface="Calibri Light"/>
              </a:rPr>
              <a:t>What next?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466560" y="6012000"/>
            <a:ext cx="45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252d33"/>
                </a:solidFill>
                <a:latin typeface="Calibri Light"/>
              </a:rPr>
              <a:t>Tax administration in developing countries and their response to BEPS</a:t>
            </a:r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466560" y="6227640"/>
            <a:ext cx="45007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014E0-1F0D-46E0-BE65-422AB011A180}" type="slidenum">
              <a:rPr b="0" lang="en-GB" sz="1000" spc="-1" strike="noStrike">
                <a:solidFill>
                  <a:srgbClr val="252d33"/>
                </a:solidFill>
                <a:latin typeface="Calibri Light"/>
              </a:rPr>
              <a:t>&lt;number&gt;</a:t>
            </a:fld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495965"/>
                </a:solidFill>
                <a:latin typeface="Calibri"/>
              </a:rPr>
              <a:t>HOW BIG IS THE PROBLEM?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14440" y="1591920"/>
            <a:ext cx="815184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52d33"/>
                </a:solidFill>
                <a:latin typeface="Calibri Light"/>
              </a:rPr>
              <a:t>OECD estimates that BEPS costs between USD100-240 billion per year in lost revenues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52d33"/>
                </a:solidFill>
                <a:latin typeface="Calibri Light"/>
              </a:rPr>
              <a:t>In 2014, the OECD examined the issue of BEPS and developing countries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701640" indent="-34272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52d33"/>
                </a:solidFill>
                <a:latin typeface="Calibri Light"/>
              </a:rPr>
              <a:t>Found that developing countries are highly reliant on corporate income tax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701640" indent="-34272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52d33"/>
                </a:solidFill>
                <a:latin typeface="Calibri Light"/>
              </a:rPr>
              <a:t>Average share of corporate income tax in total tax revenue for OECD members is 8.5 per cent, vs 16 per cent among Low Income countries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52d33"/>
                </a:solidFill>
                <a:latin typeface="Calibri Light"/>
              </a:rPr>
              <a:t>But need to look beyond the averages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3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66560" y="6012000"/>
            <a:ext cx="45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252d33"/>
                </a:solidFill>
                <a:latin typeface="Calibri Light"/>
              </a:rPr>
              <a:t>Tax administration in developing countries and their response to BEPS</a:t>
            </a:r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466560" y="6227640"/>
            <a:ext cx="45007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8FB3A-F668-48D3-AD4F-4A6110ECB321}" type="slidenum">
              <a:rPr b="0" lang="en-GB" sz="1000" spc="-1" strike="noStrike">
                <a:solidFill>
                  <a:srgbClr val="252d33"/>
                </a:solidFill>
                <a:latin typeface="Calibri Light"/>
              </a:rPr>
              <a:t>&lt;number&gt;</a:t>
            </a:fld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52d33"/>
                </a:solidFill>
                <a:latin typeface="Calibri"/>
              </a:rPr>
              <a:t>THE TAX MIX IN DEVELOPING COUNTRIES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466560" y="6012000"/>
            <a:ext cx="45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252d33"/>
                </a:solidFill>
                <a:latin typeface="Calibri Light"/>
              </a:rPr>
              <a:t>Tax administration in developing countries and their response to BEPS</a:t>
            </a:r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05" name="Slide Number Placeholder 4"/>
          <p:cNvSpPr/>
          <p:nvPr/>
        </p:nvSpPr>
        <p:spPr>
          <a:xfrm>
            <a:off x="466560" y="6227640"/>
            <a:ext cx="45007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BB945-10B5-46E0-8D1A-65F7F20D6005}" type="slidenum">
              <a:rPr b="0" lang="en-GB" sz="1000" spc="-1" strike="noStrike">
                <a:solidFill>
                  <a:srgbClr val="252d33"/>
                </a:solidFill>
                <a:latin typeface="Calibri Light"/>
              </a:rPr>
              <a:t>&lt;number&gt;</a:t>
            </a:fld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pic>
        <p:nvPicPr>
          <p:cNvPr id="306" name="Content Placeholder 5" descr=""/>
          <p:cNvPicPr/>
          <p:nvPr/>
        </p:nvPicPr>
        <p:blipFill>
          <a:blip r:embed="rId1"/>
          <a:stretch/>
        </p:blipFill>
        <p:spPr>
          <a:xfrm>
            <a:off x="900000" y="1592280"/>
            <a:ext cx="7307280" cy="4389480"/>
          </a:xfrm>
          <a:prstGeom prst="rect">
            <a:avLst/>
          </a:prstGeom>
          <a:ln w="0">
            <a:noFill/>
          </a:ln>
        </p:spPr>
      </p:pic>
      <p:sp>
        <p:nvSpPr>
          <p:cNvPr id="307" name="TextBox 2"/>
          <p:cNvSpPr/>
          <p:nvPr/>
        </p:nvSpPr>
        <p:spPr>
          <a:xfrm>
            <a:off x="4748040" y="6178680"/>
            <a:ext cx="3845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400" spc="-1" strike="noStrike">
                <a:solidFill>
                  <a:srgbClr val="252d33"/>
                </a:solidFill>
                <a:latin typeface="Calibri Light"/>
              </a:rPr>
              <a:t>Source: IMF GFS database</a:t>
            </a:r>
            <a:endParaRPr b="0" lang="en-US" sz="1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52d33"/>
                </a:solidFill>
                <a:latin typeface="Calibri"/>
              </a:rPr>
              <a:t>HOW SHOULD IT BE PRIORITISED?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98600" y="1609200"/>
            <a:ext cx="81691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52d33"/>
                </a:solidFill>
                <a:latin typeface="Calibri Light"/>
              </a:rPr>
              <a:t>Consider how reliant the economy is on corporate income tax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52236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52d33"/>
                </a:solidFill>
                <a:latin typeface="Calibri Light"/>
              </a:rPr>
              <a:t>Within this, how much comes from MNEs?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52d33"/>
                </a:solidFill>
                <a:latin typeface="Calibri Light"/>
              </a:rPr>
              <a:t>Resource dependent developing countries need to be particularly aware given the dominant role of MNEs in mining and petroleum, and in our own region - fisheries and logging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52d33"/>
                </a:solidFill>
                <a:latin typeface="Calibri Light"/>
              </a:rPr>
              <a:t>Consider institutional capabilities of the tax administration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52236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52d33"/>
                </a:solidFill>
                <a:latin typeface="Calibri Light"/>
              </a:rPr>
              <a:t>Are the basics of tax administration capability there?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10" name="Footer Placeholder 3"/>
          <p:cNvSpPr/>
          <p:nvPr/>
        </p:nvSpPr>
        <p:spPr>
          <a:xfrm>
            <a:off x="466560" y="6012000"/>
            <a:ext cx="45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252d33"/>
                </a:solidFill>
                <a:latin typeface="Calibri Light"/>
              </a:rPr>
              <a:t>Tax administration in developing countries and their response to BEPS</a:t>
            </a:r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466560" y="6227640"/>
            <a:ext cx="45007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72742-C20F-4D1E-B95F-2E75BEFA12F7}" type="slidenum">
              <a:rPr b="0" lang="en-GB" sz="1000" spc="-1" strike="noStrike">
                <a:solidFill>
                  <a:srgbClr val="252d33"/>
                </a:solidFill>
                <a:latin typeface="Calibri Light"/>
              </a:rPr>
              <a:t>&lt;number&gt;</a:t>
            </a:fld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584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52d33"/>
                </a:solidFill>
                <a:latin typeface="Calibri"/>
              </a:rPr>
              <a:t>PEFA SCORES ON MEASURES FOR TAXPAYER REGISTRATION AND ASSESSMENT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466560" y="6012000"/>
            <a:ext cx="45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252d33"/>
                </a:solidFill>
                <a:latin typeface="Calibri Light"/>
              </a:rPr>
              <a:t>Tax administration in developing countries and their response to BEPS</a:t>
            </a:r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466560" y="6227640"/>
            <a:ext cx="45007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5223C-C0D1-43E3-ADCB-089B2FB22F66}" type="slidenum">
              <a:rPr b="0" lang="en-GB" sz="1000" spc="-1" strike="noStrike">
                <a:solidFill>
                  <a:srgbClr val="252d33"/>
                </a:solidFill>
                <a:latin typeface="Calibri Light"/>
              </a:rPr>
              <a:t>&lt;number&gt;</a:t>
            </a:fld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pic>
        <p:nvPicPr>
          <p:cNvPr id="315" name="Content Placeholder 5" descr=""/>
          <p:cNvPicPr/>
          <p:nvPr/>
        </p:nvPicPr>
        <p:blipFill>
          <a:blip r:embed="rId1"/>
          <a:stretch/>
        </p:blipFill>
        <p:spPr>
          <a:xfrm>
            <a:off x="923760" y="1544760"/>
            <a:ext cx="7307280" cy="420372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588960" y="5751360"/>
            <a:ext cx="233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400" spc="-1" strike="noStrike">
                <a:solidFill>
                  <a:srgbClr val="252d33"/>
                </a:solidFill>
                <a:latin typeface="Calibri Light"/>
              </a:rPr>
              <a:t>Source: Carnahan (2015)</a:t>
            </a:r>
            <a:endParaRPr b="0" lang="en-US" sz="1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52d33"/>
                </a:solidFill>
                <a:latin typeface="Calibri"/>
              </a:rPr>
              <a:t>IF IT IS A PRIORITY WHICH ACTION ITEMS ARE MOST RELEVANT?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Excessive or unwarranted payments to MNE affiliates, especially excessive interest payments and payments for services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52236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Developing countries report difficulties in whether real value was received 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4" marL="880920" indent="-342720">
              <a:lnSpc>
                <a:spcPts val="2798"/>
              </a:lnSpc>
              <a:spcBef>
                <a:spcPts val="601"/>
              </a:spcBef>
              <a:buClr>
                <a:srgbClr val="00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5d67"/>
                </a:solidFill>
                <a:latin typeface="Calibri"/>
                <a:ea typeface="Calibri"/>
              </a:rPr>
              <a:t>OECD Recommendations on </a:t>
            </a:r>
            <a:r>
              <a:rPr b="0" lang="en-AU" sz="2400" spc="-1" strike="noStrike" u="sng">
                <a:solidFill>
                  <a:srgbClr val="005d67"/>
                </a:solidFill>
                <a:uFillTx/>
                <a:latin typeface="Calibri"/>
                <a:ea typeface="Calibri"/>
              </a:rPr>
              <a:t>Action 4 </a:t>
            </a:r>
            <a:r>
              <a:rPr b="0" lang="en-AU" sz="2400" spc="-1" strike="noStrike">
                <a:solidFill>
                  <a:srgbClr val="005d67"/>
                </a:solidFill>
                <a:latin typeface="Calibri"/>
                <a:ea typeface="Calibri"/>
              </a:rPr>
              <a:t>on interest payments and </a:t>
            </a:r>
            <a:r>
              <a:rPr b="0" lang="en-AU" sz="2400" spc="-1" strike="noStrike" u="sng">
                <a:solidFill>
                  <a:srgbClr val="005d67"/>
                </a:solidFill>
                <a:uFillTx/>
                <a:latin typeface="Calibri"/>
                <a:ea typeface="Calibri"/>
              </a:rPr>
              <a:t>Actions 8-10 </a:t>
            </a:r>
            <a:r>
              <a:rPr b="0" lang="en-AU" sz="2400" spc="-1" strike="noStrike">
                <a:solidFill>
                  <a:srgbClr val="005d67"/>
                </a:solidFill>
                <a:latin typeface="Calibri"/>
                <a:ea typeface="Calibri"/>
              </a:rPr>
              <a:t>on transfer pricing especially the simplification measures on low value adding intra group services (LVAIGS) help to address this issue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3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466560" y="6012000"/>
            <a:ext cx="45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252d33"/>
                </a:solidFill>
                <a:latin typeface="Calibri Light"/>
              </a:rPr>
              <a:t>Tax administration in developing countries and their response to BEPS</a:t>
            </a:r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466560" y="6227640"/>
            <a:ext cx="45007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54FFF-0E56-4EB9-AAF6-DFA03053F06F}" type="slidenum">
              <a:rPr b="0" lang="en-GB" sz="1000" spc="-1" strike="noStrike">
                <a:solidFill>
                  <a:srgbClr val="252d33"/>
                </a:solidFill>
                <a:latin typeface="Calibri Light"/>
              </a:rPr>
              <a:t>&lt;number&gt;</a:t>
            </a:fld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00000" y="926640"/>
            <a:ext cx="790416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New models for doing business such as global value chains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490680" indent="-32220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 </a:t>
            </a: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Difficulties in challenging supply chain restructuring where functions, assets (particularly intellectual property) and risk are centralised at a global or regional level often in a low tax jurisdiction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662400" indent="-322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5d67"/>
                </a:solidFill>
                <a:uFillTx/>
                <a:latin typeface="Calibri"/>
                <a:ea typeface="Calibri"/>
              </a:rPr>
              <a:t>Actions  8-10</a:t>
            </a:r>
            <a:r>
              <a:rPr b="0" lang="en-AU" sz="2400" spc="-1" strike="noStrike">
                <a:solidFill>
                  <a:srgbClr val="005d67"/>
                </a:solidFill>
                <a:latin typeface="Calibri"/>
                <a:ea typeface="Calibri"/>
              </a:rPr>
              <a:t>  clarify the Transfer Pricing rules and emphasise the economic substance of operations 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662400" indent="-322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5d67"/>
                </a:solidFill>
                <a:latin typeface="Calibri"/>
                <a:ea typeface="Calibri"/>
              </a:rPr>
              <a:t> </a:t>
            </a:r>
            <a:r>
              <a:rPr b="0" lang="en-AU" sz="2400" spc="-1" strike="noStrike">
                <a:solidFill>
                  <a:srgbClr val="005d67"/>
                </a:solidFill>
                <a:latin typeface="Calibri"/>
                <a:ea typeface="Calibri"/>
              </a:rPr>
              <a:t>The new Transfer Pricing documentation (CbC reports) recommended under </a:t>
            </a:r>
            <a:r>
              <a:rPr b="0" lang="en-AU" sz="2400" spc="-1" strike="noStrike" u="sng">
                <a:solidFill>
                  <a:srgbClr val="005d67"/>
                </a:solidFill>
                <a:uFillTx/>
                <a:latin typeface="Calibri"/>
                <a:ea typeface="Calibri"/>
              </a:rPr>
              <a:t>Action 13 </a:t>
            </a:r>
            <a:r>
              <a:rPr b="0" lang="en-AU" sz="2400" spc="-1" strike="noStrike">
                <a:solidFill>
                  <a:srgbClr val="005d67"/>
                </a:solidFill>
                <a:latin typeface="Calibri"/>
                <a:ea typeface="Calibri"/>
              </a:rPr>
              <a:t>will supply information required to apply transfer pricing rules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662400" indent="-322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5d67"/>
                </a:solidFill>
                <a:uFillTx/>
                <a:latin typeface="Calibri"/>
                <a:ea typeface="Calibri"/>
              </a:rPr>
              <a:t>Action 7</a:t>
            </a:r>
            <a:r>
              <a:rPr b="0" lang="en-AU" sz="2400" spc="-1" strike="noStrike">
                <a:solidFill>
                  <a:srgbClr val="005d67"/>
                </a:solidFill>
                <a:latin typeface="Calibri"/>
                <a:ea typeface="Calibri"/>
              </a:rPr>
              <a:t> on permanent establishment (PE) will assist in ensuring that MNEs operating in source countries are taxed on their true economic activity in those countries  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662400" indent="-32220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662400" indent="-32220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490680" indent="-32220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466560" y="6012000"/>
            <a:ext cx="45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252d33"/>
                </a:solidFill>
                <a:latin typeface="Calibri Light"/>
              </a:rPr>
              <a:t>Tax administration in developing countries and their response to BEPS</a:t>
            </a:r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466560" y="6227640"/>
            <a:ext cx="45007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F2B99C-3B30-4B6D-9773-F2B22B87CC19}" type="slidenum">
              <a:rPr b="0" lang="en-GB" sz="1000" spc="-1" strike="noStrike">
                <a:solidFill>
                  <a:srgbClr val="252d33"/>
                </a:solidFill>
                <a:latin typeface="Calibri Light"/>
              </a:rPr>
              <a:t>&lt;number&gt;</a:t>
            </a:fld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823680" y="617040"/>
            <a:ext cx="73832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Developing countries need information to assess and address BEPS issues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511560" indent="-3358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Country by country reporting will help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35880" indent="-3358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Treaty abuse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511560" indent="-3358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Developing countries rely on relatively high withholding taxes from interest and royalties. MNEs can use techniques to route payments through affiliates to avoid the payment of withholding tax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687600" indent="-335520">
              <a:lnSpc>
                <a:spcPts val="2798"/>
              </a:lnSpc>
              <a:spcBef>
                <a:spcPts val="601"/>
              </a:spcBef>
              <a:buClr>
                <a:srgbClr val="00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d67"/>
                </a:solidFill>
                <a:latin typeface="Calibri Light"/>
              </a:rPr>
              <a:t>Minimum standard recommendations for </a:t>
            </a:r>
            <a:r>
              <a:rPr b="1" lang="en-US" sz="2400" spc="-1" strike="noStrike" u="sng">
                <a:solidFill>
                  <a:srgbClr val="005d67"/>
                </a:solidFill>
                <a:uFillTx/>
                <a:latin typeface="Calibri Light"/>
              </a:rPr>
              <a:t>Action 6 </a:t>
            </a:r>
            <a:r>
              <a:rPr b="1" lang="en-US" sz="2400" spc="-1" strike="noStrike">
                <a:solidFill>
                  <a:srgbClr val="005d67"/>
                </a:solidFill>
                <a:latin typeface="Calibri Light"/>
              </a:rPr>
              <a:t>include limitation of benefits/principal purpose clauses that deny treaty benefits if there has been treaty shopping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25" name="Footer Placeholder 3"/>
          <p:cNvSpPr/>
          <p:nvPr/>
        </p:nvSpPr>
        <p:spPr>
          <a:xfrm>
            <a:off x="466560" y="6012000"/>
            <a:ext cx="45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252d33"/>
                </a:solidFill>
                <a:latin typeface="Calibri Light"/>
              </a:rPr>
              <a:t>Tax administration in developing countries and their response to BEPS</a:t>
            </a:r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466560" y="6227640"/>
            <a:ext cx="45007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84177-04B2-44C0-B7FA-5E6BA8286CE8}" type="slidenum">
              <a:rPr b="0" lang="en-GB" sz="1000" spc="-1" strike="noStrike">
                <a:solidFill>
                  <a:srgbClr val="252d33"/>
                </a:solidFill>
                <a:latin typeface="Calibri Light"/>
              </a:rPr>
              <a:t>&lt;number&gt;</a:t>
            </a:fld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7T00:02:50Z</dcterms:created>
  <dc:creator>Ben Fulford</dc:creator>
  <dc:description/>
  <dc:language>en-US</dc:language>
  <cp:lastModifiedBy>jabato</cp:lastModifiedBy>
  <dcterms:modified xsi:type="dcterms:W3CDTF">2016-10-25T08:10:31Z</dcterms:modified>
  <cp:revision>89</cp:revision>
  <dc:subject/>
  <dc:title>PowerPoint - stand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lpha">
    <vt:lpwstr>1. Examples of best practice</vt:lpwstr>
  </property>
  <property fmtid="{D5CDD505-2E9C-101B-9397-08002B2CF9AE}" pid="3" name="ContentTypeId">
    <vt:lpwstr>0x01010068D47A3238F547F295FC4399B890905A00EB5D4F438FF3914DA696AB2B9777A65B</vt:lpwstr>
  </property>
  <property fmtid="{D5CDD505-2E9C-101B-9397-08002B2CF9AE}" pid="4" name="DLM">
    <vt:lpwstr>No DLM</vt:lpwstr>
  </property>
  <property fmtid="{D5CDD505-2E9C-101B-9397-08002B2CF9AE}" pid="5" name="ExpiryDate">
    <vt:lpwstr/>
  </property>
  <property fmtid="{D5CDD505-2E9C-101B-9397-08002B2CF9AE}" pid="6" name="Format">
    <vt:lpwstr>6. PowerPoint</vt:lpwstr>
  </property>
  <property fmtid="{D5CDD505-2E9C-101B-9397-08002B2CF9AE}" pid="7" name="ItemActive">
    <vt:lpwstr>1</vt:lpwstr>
  </property>
  <property fmtid="{D5CDD505-2E9C-101B-9397-08002B2CF9AE}" pid="8" name="Order">
    <vt:r8>81800</vt:r8>
  </property>
  <property fmtid="{D5CDD505-2E9C-101B-9397-08002B2CF9AE}" pid="9" name="OrganisationalUnit">
    <vt:lpwstr/>
  </property>
  <property fmtid="{D5CDD505-2E9C-101B-9397-08002B2CF9AE}" pid="10" name="PageAuthor">
    <vt:lpwstr/>
  </property>
  <property fmtid="{D5CDD505-2E9C-101B-9397-08002B2CF9AE}" pid="11" name="PageDescription">
    <vt:lpwstr/>
  </property>
  <property fmtid="{D5CDD505-2E9C-101B-9397-08002B2CF9AE}" pid="12" name="PageKeywords">
    <vt:lpwstr/>
  </property>
  <property fmtid="{D5CDD505-2E9C-101B-9397-08002B2CF9AE}" pid="13" name="ReviewDate">
    <vt:lpwstr/>
  </property>
  <property fmtid="{D5CDD505-2E9C-101B-9397-08002B2CF9AE}" pid="14" name="SEC">
    <vt:lpwstr>UNCLASSIFIED</vt:lpwstr>
  </property>
  <property fmtid="{D5CDD505-2E9C-101B-9397-08002B2CF9AE}" pid="15" name="SecurityCategory">
    <vt:lpwstr/>
  </property>
  <property fmtid="{D5CDD505-2E9C-101B-9397-08002B2CF9AE}" pid="16" name="TRIMReferenceNumber">
    <vt:lpwstr/>
  </property>
  <property fmtid="{D5CDD505-2E9C-101B-9397-08002B2CF9AE}" pid="17" name="Template group">
    <vt:lpwstr>Publication Templates</vt:lpwstr>
  </property>
  <property fmtid="{D5CDD505-2E9C-101B-9397-08002B2CF9AE}" pid="18" name="TitusGUID">
    <vt:lpwstr>4eff7683-992b-4bda-a122-576332d128ee</vt:lpwstr>
  </property>
</Properties>
</file>